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8580A-3DFC-4148-B251-8328631EE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261DA-CF59-4A7A-9D70-9710C282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B01AA-B9C0-4A04-8F2E-2FCA7197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817F1-4698-4CCF-B1CF-91102A72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613C-269B-48B1-8517-9BCFCBED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324B-CFF5-4251-ACFC-93ECDC0D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8C49-EED3-4870-9C00-CCDDEF89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336E-80FE-4746-B52C-4C555E00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F3E5-BFC4-4C83-8790-38A17E3A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3D59-A7EF-43F2-88F8-8FD439D7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E2C5-3F08-4232-85ED-2A48229B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CA010-EA87-438F-AA90-FE62B0E8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4C1C-CD00-446D-8DE0-695301AD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8BAD-DD9B-44E1-A3AD-A7356C41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DD44-641F-4A7D-BBDC-C77A341C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D0E8-4649-46D8-9AA3-ED4F2178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9218-DB79-4972-9344-9CDFE2B5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3D0DA-2A77-44C3-BFCB-D02837F5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0A3E-D645-483D-BFFB-289F46E2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053A2-ED7A-4C51-B23B-3939E12A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B683D-D042-448E-A7B6-81DE05A5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AFACB-AC77-451C-BF5D-3EC08E1C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A1AB2-8207-41FE-9577-7ACB4F89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DEAF9-1439-4FB1-A0DB-3A76B2FC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1674-7F55-4C71-B25D-201F3EB2D9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583E-E777-4CCB-8AA7-5842FAFC2B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1413000"/>
            <a:ext cx="81356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Болезни печени, легких и почек при беременности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Заболевания печени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ды родораз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оразреш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лжно быть быстрым и бережны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чтительно абдомина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ы  амниотомия, родовозбужде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орочение второго периода родов путем наложения акушерских щипц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ое - успеть родоразрешить женщину до гибели плода и появления признаков ДВС-синдро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слеоперационный пери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операционном периоде проводится профилактика массивного кровотечения и гнойно-септических ослож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одятся свежая донорская кровь, белковые (альбумин, плазма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ологически активные препараты (гемодез, реополиглюкин, трента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ранти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гибиторы протеа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онтрикал, гордок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рочном родоразрешении можно снизи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нск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ерт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2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синдро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тяжелое осложнение беременности, возникающее чащ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ее и характеризующееся определенным симтомокомплексо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молизом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lisi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ышением уровня ферментов печени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ed liver enzim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омбоцитопенией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playelet coun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 обычно, но не всегда развивается на фоне типичного гестоз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е составляет 3,5%, 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ината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79%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иопатогенез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новение заболевания связывают со снижением продукции простациклина, вызывающего вазоконстрикцию в области плаценты. Это приводит к изменениям эндотелия, высвобождению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центарного тромбопласти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поступлению его в материнский кровоток. Следствием этого является адгезия и агрегация тромбоцитов, возникае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ромбоцитоп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пассаже эритроцитов через измененные микрососуды происходи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емоли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Нарушение перфузии в печени ведет к развитию токсического гепатоза - некрозам паренхимы и в ряде случаев - к субкапсулярной гематоме. В результате 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вышается уровень ферментов в кров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76000"/>
            <a:ext cx="822960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левание возникае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69% случаев в 35 нед.  беремен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0% -  раньше 27 нед. берем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3 % - в первую неделю после ро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овная б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шнота, рвота (кровавая рво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фузные или локализующиеся в правом подреберье и/или в эпигастрии боли в живо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т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воизлияния в местах инъе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ессирующая печеночная недостаточность, судороги и к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частыми осложнения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а являются ПОНРП (22%) и острая почечная недостаточность (8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яжесть состояния быстро нараст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ораторная диагностит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 500 е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общего билирубина ( как  прямой, так и непря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а тромбоцитоп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ается внутрисосудистый гемолиз(гемолитическая анем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ется содержание антитромби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дновременно увеличиваются протромбиновое время и частичное тромбопластиновое время, уровень фибриногена сниж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ся содержание азотистых веществ в кров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а гипогликем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фологическое исследование печени свидетельствует, что в основе патологического процесса лежит синдром ДВС, некрозы печени. Наиболее точный  диагноз возможен с помощью компьютерной томографии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ечени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синдро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индрома предусматривает назначение плазмафереза, переливание плазмы, обогащенной тромбоцитами, или концентрата тромбоци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уется экстренное родоразрешение через естественные родовые пути при подготовленной шейке матки и отсутствии противопоказаний к самостоятельным родам. При неподготовленности родовых путей производится кесарево се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ается интенсивная терапия, включающая глюкокортикоиды (не менее 1 г преднизолона в сутки), введение иммуноглобулинов, гепатопротекторные сре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родов все призна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синдрома исчезают в течение 5-7 дней и обычно не повторяются при последующих беременн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утрипеченочный холестаз беременных (холестатический гепатоз беременных, доброкачественная желтуха беременных, идиопатическая желтуха беременных, возвратная холестатическая внутрипеченочная желтух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149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частоте причина желтухи у беременных после вирусного гепат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ологически он связан только с беремен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чается у 0,1-2% бер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тиология и патогенез холестатического гепат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ют, что в основе заболевания лежит генетическая предрасположенность к необычной холестатической реакции на продуцируемые во время беременности эстроге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ют, что избыток эндогенных половых гормонов, свойственный периоду беременности, оказывает стимулирующее влияние на процессы желчеобразования и ингибирующее - на желчевыдел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выделения желчи способствует обратной диффузии билирубина в кровь. Это предположение подтверждается тем, что данный патологический синдром развивается у 80-90% женщин во второй половине беременности и подъем содержания эстрогенов коррелирует у них с развитием кожного зу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зни печени у беременных могут быть непосредственно связаны с гестацией и сопутствовать 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первую групп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ходят синдром Шихана (острая жировая дистрофия печени), внутрипеченочный холестаз беременных 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L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синдр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торую групп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авляют заболевания, которые не связаны с беременностью, а возникают во время нее (например, острый вирусный гепатит) или беременность развивается на их фоне (хронический гепатит, цирроз печени, доброкачественная гипербилирубинем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ини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лестатического гепатоз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болевание может возникнуть при любом  сроке беременности, но чаще отмечается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мест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чительный кожный зу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туха (кожный зуд возникает  за несколько недель до появления желтух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шнота, рвота (неинтенсивны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 правом подребер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стальном состояние беременных почти не изменяется. Печень и селезенка, как правило, не увеличе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абораторная диагностика холестатического гепат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 (в 5 раз) уровня билирубина (в основном за счет его прямой фра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ная уробилиногену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(в 10-100 раз) содержания желчных кисл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ет активность ряда экскреторных ферментов, свидетельствующих о холестазе: щелочная фосфатаз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мма-глютамилтранспептидаза, 5-нуклеотид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ость трансаминаз (аланинаминотрансфераза и аспартат-аминотрансфераза) остается в пределах нормы или повышается незнач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ивается коцентрация холестерина, триглицеридов, фосфолипидов, р-липопротеи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аются показатели сверты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еинограмма не измен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стологические исследования печени при доброкачественном холестазе беременных показывают сохранение структуры долек и портальных полей, признаки воспаления и некроза отсутству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ственный патологический признак - очаговый холестаз с желчными тромбами в расширенных капиллярах и отложение желчного пигмента а соседних печеночных клетк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ложнения  беременности при холестатическом гепат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ушерская ситуация, как и у всех больных с патологией печени, характеризуе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ышенной частотой преждевременных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ой перинатальной смертностью - до 11-13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окой частотой тяжелых послеродовых кровотечени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Лечение холестатического гепатоз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сих пор нет лекарства, специфически действующего на холес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дится симптоматическо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чение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новная задача которого - подавление кожного зу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араты, связывающие избыток желчных кислот 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ви ( холестирамин , антациды:маалокс, альмагель, фосфа-люге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пые тюбажи с ксилитом, сорби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чегонные из группы холецистокинетиков. Антигистаминные средства обычно не эффективны, поэтому назначать их нецелесообразно. Лекарственный метаболизм происходит в основном в печени, поэтому нежелательна медикаментозная перегру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Родоразрешение беременных с холестатическим гепатозом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печеночная холестатическая желтуха беременных у большинства женщин протекает доброкачественно, прерыв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ременности не показа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ы у таких женщин рекомендуется проводить в лечебных учреждениях, где будет обеспечено оптимальное лечение преждевременно родившегос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дах показана профилактика кровотечения (часто коагулопатическог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ритических ситуациях при появлении опасности для плода следует вызывать преждевременные роды после 37 нед.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рый вирусный гепати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ое частое заболевание, сопровождающееся желтухой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н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вязанное с беременност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стоящее время по этиологическому признаку различают несколько вариантов острого вирусного гепатита: вирусный гепатит А (ВГА), вирусный гепатит В (ВГВ), вирусный гепатит С (ВГС), вирусный гепати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вирусный гепатит Е (ВГЕ). Имеются достаточно четкие представления о вирусном гепати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есомые предположения о существовании вирусного гепати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Вирусный гепатит А (ВГА).</a:t>
            </a:r>
            <a:br>
              <a:rPr sz="31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Особенности течения беременн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роза прерывание беременности (в 2 раза чаще); в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иместрах беременности риск выше, чем в перв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е тяжелое течение гепатита (в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ловине беременности  гепатит протекает тяжелее, чем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дение родов при остром В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Роды  не грозят роженице какими-либо осложненииями, связанными с гепати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Во время родов  плод всегда находится в состоянии гипок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и ведении родов  нужно иметь в виду прежде всего состояние плода и независимо от срока беременности их нужно вести как преждеврем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ВГА во всех стадиях заболевания не является противопоказанием для родоразрешения путем кесарева сечения (по строгим акушерским показаниям), но предпочтение следует отдавать родоразрешению через естественные родовые пу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.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роды произошли в острой стадии ВГА, это повышает риск послеродовых воспалительных заболеваний у родильницы и риск постнатальной заболеваемости у новорожд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бенок родится здоровым. Он не подвержен риску инфицирования ВГА и в специальной профилактике не нужда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ГА относится к самоизлечивающимся инфекциям, поэтому не требуется медикаментозная терапия, можно ограничиться лечебно-охранительным режимом и дие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филактика ВГА у беремен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людении общегигиенических мероприят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исключение контактов с желтушными больны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беременной, имевшей контакт с больным ВГА (и всем беременным в очаге эпидемии), у-глобулина однократно в дозе 3-5 мл внутримышеч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-глобулин введен до заражения вирусом или в раннем инкубационном периоде, он может предотвратить или ослабить клиническое течение заболевани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ая жировая дистрофия печени беременных (синдром Шихана, острый жировой гепатоз беременных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рая желтая атрофия пече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331720"/>
            <a:ext cx="822960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индром описан впервые  в 1934 году, а подробная клиническая и гистологическая характеристика заболевания да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eha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1940 году. Он предложил название «острая желтая атрофия печени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 случай на 13 500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нем составляет 60-85%, плод погибает еще чащ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рый вирусный гепатит В (ВГ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ус гепатита В относится к ДНК-содержащим вирусам, поражающим преимущественно клетки печ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будитель гепатита В передается от больного или вирусоносителя с кровью и всеми биологическими жидкостями: спермой, слюной, мочой, моло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ца, перенесшие гепатит В и имеющие антитела 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вторно не заболев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ус ГВ проходит через плаценту, и возможно внутриутробное заражение пл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преимущественно происходит интранатальное заражение (95%), на пре- и постнатальное заражение приходится 5% случа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детей может возникнуть пожизненная персистенция вируса, в результате чего к 20 годам они умирают от цирроза или рака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ют, что в мире имеется 1 млрд инфицированных, 300 млн носителей вируса 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обенности течения беременности при остром ВГ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 представляет реальную угрозу для жизни женщины, плода и новорожденного (летальность вне беременности составляет 0,4-2%, у беременных в 3 раза выш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ний токсикоз – 35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стоз – 22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Р -  2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роза прерывания беременности  -  54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5% случаев дети в дальнейшем отстают в общем развитии и предрасположены к различным заболе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ается риск ПГСЗ ( угнетение иммунного статуса  за счет беременности и за счет гепатита, и активизации на этом фоне бактериальной микрофло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родильниц часто возникают поздние послеродовые кровотечения, их риск сохраняется на протяжении 2-3 недель после родов (на фоне эндометри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Особенности течения ВГВ у беременны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удшение течения острого В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ая печеночная недостаточность клинически выражается энцефалопатией, прогрессирующей желтухой, геморрагическим диатезом, нарушением белковосинтетической и. обезвреживающих функций печени. Основным признаком является энцефалопа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родовом периоде - ухудшение течения заболевания, независим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о, каким путем произошло прекращение беременности: роды или выкидыш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, развившийся в периоде лактации, протекает еще тяжелее, чем во время берем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больше времени прошло от начала заболевания до момента родов, тем меньше осложнений возникает у беременной, роженицы, родильницы, плода и новорожде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чение родов при остром ВГ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й стадии ВГВ по количеству и структуре осложнений практически мало отличаются от родов у здоровых роже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касается нарушений сократительной деятельности матки, кровотечений во время родов и в раннем послеродовом пери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й стадии ВГВ всегда от внутриутробной гипоксии страдает плод, нагрузка на него увеличивается во время родов, особенно преждеврем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Лечение беременных с острым ВГ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нцип лечения при легкой и среднетяжелой формах ВГВ тот же что и при ВГ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етотерапия без существенного медикаментозного ле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тяжелой форме острого ВГВ возникает необходимость в лекарственных средств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ение угрозы прерывания берем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филактика ВГ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ктически всем беременным производят скрининг на носительст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8 и 32 неделях берем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питализируют больных женщин и вирусоносительниц в инфекционную больницу с акушерским стациона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илактику ВГВ у новорожденных, матери которых являются носителя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перенесли ВГВ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беременности, осуществляют вакциной в первые 24ч, через 1,2 и 12 м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распространенн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BsA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опуляции более 2% в профилактике нуждаются все новорожде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рый ВГС и берем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ыработано единого взгляда на возможность передачи инфекции от матери плоду (антенатально, интранатально и постнатально), данные литературы очень противоречивы. ВГС проходит через плаценту, это пассивная передача их плоду от матер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йствия акушера в острой стадии ВГС у беременной такие же, как при тяжелой фор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Г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преждение прерывания берем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ение родов в любом сроке беременности как преждеврем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и лечение послеродовых осложн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натальная смертность при ВГС, начавшемся остро, чрезвычайно выс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 острого вирусного гепатита С у беременных такое же, как лечение ВГА и ВГ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ВГС подобна профилактике ВГВ. Однако вакцина против ВГС пока не созд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188800"/>
            <a:ext cx="822960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оевременная и полноценная диагностика заболевания, которая включает в себя определение этиологии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лан лечения ВГ и ведения беременности составляется инфекционистом и акушером и корригируется в зависимости от степени тяжести и стадии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е беременные в острой стадии ВГ подлежат госпитализации, которая должна быть организована таким образом, чтобы в стационаре можно было осуществить полноценную диагностик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чение основного заболевания, а также необходимую акушерскую помощь во время беременности и родовспом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314080"/>
            <a:ext cx="822960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ноценное лечение основного заболевания - наиболее эффективный способ профилактики акушерских осложнений у больной беременной, у плода и новорожден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начаемые инфекционистами лекарственные средства, включая все реже применяемые кортикостероид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могают беременной, плоду и новорожденному компенсировать повреждающее действие В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96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й принцип тактики ведения беременности в острой стадии ВГ любой этиологии - предупреждение прерывания берем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давляющем большинстве случаев обычные средства лечения, включая гормональные, примененные своевременно и последовательно, оказываются достаточно эффектив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а, применяемые инфекционистами при среднетяжелом и тяжелом течении ВГВ (вливание растворов глюкозы, гемодеза, аскорбиновой кислоты и др.), способствуют улучшению питания и снижению уровня гипоксии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тиология ОЖГ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болевания  не яс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развитие связывают с тромбозом сосудов печени, побочным действием тетрациклина и левомицетина, определенное значение имеют нарушения иммунного гомеостаза в системе мать - плод,  возможно, болезнь связана с генетическими дефектами ферментных систем печ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биопсии определяют массивное диффузное ожирение печени без некроза гепатоцитов и воспалительной инфильтр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ое ожирение печени проявляется тяжелой печеночно-клеточной недостаточностью, геморрагическим синдромом, обусловленным диссеминированным внутрисосудистым свертыванием крови и поражением поче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циональная тактика ведения беременности и родов при острых вирусных гепати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начинается родовая деятельность в острой стадии В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иодах родов необходимо использовать акушерские приемы и лекарственные средства для предупреждения и лечения внутриутробной гипоксии плода и родового травмат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юбом сроке беременности роды следует вести как преждевременные с широким использ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зболивающи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пазмолитических средств и максимальным сокращени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го периода,  с использованием    перинеотомии и пудендальной анесте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трой стадии ВГ предпочтительны роды через естественные родовые пути, однако при необходимости, по акушерским показаниям, возмож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оразреш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тем кесарева сечения под общим обезболиваний  или эпидуральной анестез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ечение послеродовых заболеваний родильницы и новорожденного необходимо начинать возможно раньше и проводить в полном объем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ром периоде ВГ абсолютно противопоказано прерывание беременности, независимо от срока беременности, медицинских показаний и желания женщин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рая стадия ВГ' заканчивается при наличии клинических и лабораторных признаков выздоровления, т.е. когда наступает период реконвалесценции. Прерывание беременности лучше производить именно в это врем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онические гепатиты: хронический персистирующий(ХПГ) и хронический активный ( ХАГ)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ым литературы у, 50-60% пациенто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Х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казывает неблагоприятное влияние на течение беременности и ее исх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ринская смертность составляет 8-9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нтанные аборты - 15-20%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ждевременные роды - 21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натальная смертность 200-220%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стрение и ухудшение течения  заболеваний печени  -  22% (обычно в начале беременности или через 1-2 мес. после ее исх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ние улучшалось во второй половине беременности, по-видимому, под влиянем гиперкортицизма, свойственного этому периоду г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нщинам, больным хроническим активным гепатитом беременность противопоказ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14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чени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ПГ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рокачественное, заболев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рогрессирует много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ронический персистирующий гепатит у большинства беременных протекает более доброкачественно, чем ХА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при этом заболевании не противопоказа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ред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ко при хр. гепатите В возможность передачи вируса плоду так же велика, как при остром гепат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ирроз печен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ирроз печени в сочетании с беременностью встречается ред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ным циррозом печени должно быть предложено прерывание беременности на ранних ее сро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может быть сохранена при настойчивом желании женщины, у которой цирроз печени не сопровождается признаками декомпенсации и выраженной портальной гипертенз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ирроз пече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трение процесса в период беременнос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произвольные аборты и преждевременные р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ртворож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нская смертность высок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вотечени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родовом периоде или после аборта из-за нарушений функций печ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ьший подъем уровня портальной гипертензии и риск кровотечения из вен пищевода существует в конц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чал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местров берем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качественные гипербилирубинем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берем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 "доброкачественная гипербилирубинемия" - собирательное понятие, включающиие различные заболевания, связанные с нарушением обмена билируби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в крови уровн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ямого билируб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условлено нарушением оттока желчи по холангиолам или внепеченочным желчным прото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в крови уровн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прямого билируб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следствием снижения способности гепатоцитов захватывать билирубин из плазмы крови, обусловленной недостаточностью трансфертной активности клеток печ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Жильбера обусловлен повышением уровня непрямого билирубина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Дабина-Джонсона - врожденное нарушение желчевыделительной функции печени с увеличением в крови преимущественн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го билирубина, но также и непрям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отора близок к предыдущему варианту и также характеризуется гипербилирубинемие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рямой реак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таких больных основным признаком болезни является иктеричность склер и гипербилирубинемия с прямой или непрямой реакци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едко имеются диспепсические расстройства, незначительная спленомегал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функциональных проб печени изменяется в основном билирубин сыворотки крови с преобладанием прямой или непрямой реакц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брокачественные гипербилирубинемии не представляют опасности для беременных женщин и не являются противопоказанием для ее сохра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Схема динамического наблюдения за беременными с заболеваниями пече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посещения до 30нед 2р в месяц, затем – 3-4 раза в меся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апевт – 1раз в 2-3 м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льтация гастроэнтеролога, гепат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/х исследование: белок, билирубин – прямой и непрямой, холестерин, глюкоза, креатинин, печеночные пробы, трансаминазы (щелочная фофатаза, лактат-дегидрогеназа, аспартатаминотрансфераза, аланинаминотрансфера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мостази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 печени, желчного пузыря и прот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ния к госпитализации – обострение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Болезни печени, легких и почек при бе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4417920"/>
            <a:ext cx="82296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болевания легких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675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В течении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заболевания выделяют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три стад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ер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адия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желтушная) начинается на 30-34-й неделе береме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шнота, рв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жив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б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жный зу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ж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жога  сопровождается ощущением жжения по ходу пищевода при прохождении не только твердой пищи, но и жидкости. По мере развития болезни изжога становится мучительной и не поддается леч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чение острой пневмонии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тяжелое в связи со снижением дыхательной поверхности легких, высоким стоянием диафрагмы, ограничивающей экскурсии легких, дополнительной нагрузкой на сердечно-сосудистую сис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ет быть и стертым, без высокой лихорадки, выраженных явлений интоксикации, патологических сдвигов в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трая пневмония не является противопоказанием для продолжения беременно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ложнения беременности при острой пневмо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: в/у гибель плода, материнская смерт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строй пневмонии  следует отсрочить развитие родовой деятельности назначением бетта-миметиков и других средств, так как родовой акт опасен в связи с воздействием токсико-инфекционных факторов на нервную и сердечно-сосудистую систе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наличии дыхательной недостаточнос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период изгнания укорачивают путем перинеотомии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чение пневмонии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невмонии производится в условиях стациона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боре антибиотика рекомендуется учитывать срок беременности и влияние препарата на п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идентификации возбудителя проводят бактериологическое исследование мокроты. Определяют чувствительность микроорганизмов к антибиоти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/б: пенициллин, синтетические пенициллины, цефалоспорины, аминогликозиды, фторхинолоны, макрол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80438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Бронхиальная астма у беременных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Среди беременных бронхиальную астм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агностируют у 1-2% женщ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чение БА во время беременности: м.б.улучшение , без изменений или ухудш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Течение БА во время беременност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785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Улучшение течения Б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роцессе беременности расширяется просвет бронхов и улучшается их проходимость, что наиболее выражено во второй половине берем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величение концентрации свободного кортизола, а также циклического АМ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280" y="66600"/>
            <a:ext cx="779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40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худшение течения Б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ологическая гипервентиляц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концентрации прогестерона снижает чувствительность дыхательного центра к углекислоте, что вызывает повышение его акт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ремя беременности происходит угнетение клеточного иммунит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продукции аденозина, активация Т-супрессоров, которые хронизируют инфекционные заболев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оцирование иммунных процессов антигенами пл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невосприимчивости беременных к вирусным заболев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поскольку бронхиальная астма является гетерогенным заболеванием, во время беременности она может протекать по-раз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лияние бронхиальной астмы на течение беременност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 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ний гестоз (у 37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дний гестоз (у 43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роза прерывания беременности (у 26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оническая гипоксия плода и ЗВ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омалии родовой деятельности (у 19,4%), чаще быстрые и стремительные 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ий родовой травматизм плода(у 23,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утробное инфиц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натальная смертность (42%о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онхиальная астма развивается у 5% детей в первый год жизни, у 58% она может появиться в последующие г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едение беременных с 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наблюдения – обы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терапевтом 1раз в 2мес, консультация пульмон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"простудное" заболевание является показанием для лечения  антибиотиками, физиотерапевтическими процедурами отхаркивающими средствами,  назначения бронхолитических препаратов или увеличения их д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нтгеноскопия органов грудной клетки (по показания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ктериологическое исследование мок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острении показана госпитал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довая госпитализация - за две недели до 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илактика  хроническ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центарной недостато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, ДМИ,КТГ плода, динамическое определение эстриола в крови матери с целью ранней диагностики страдания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онхиальна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тм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является противопоказанием для беременности, даже ее гормонозависнмая форма, так как поддается медикаментозно-гормоналыюй терап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Родоразрешение беременных с Б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 бронхиальной астмой рожают обыч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vias natura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при доношенной беременности, так как приступы удушья в родах не трудно предотврат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иодах родов необходим тщательный контроль (КТГ) за состоянием плода, при ухудшении его состояния накладывают акушерские щип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яжелая дыхательная и легочно-сердечная недостаточно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ужа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анием для оперативного родоразрешения путем кесарева сечения. У 6,5% больных во время операции развивается бронхоспазм. Седативные препараты во время операции применяются только в исключительных случаях, т. к. они угнетают дыхательный центр и тормозят кашлевой рефл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чение Б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л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ронхиальной астмы у беременных следует иметь в виду, что все используемые для этой цели препараты проходят через плаценту и могут причинить вред пл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астма течет благополучно, не нужно вообще прибегать к лекарственной терапии. При легком обострении заболевания можно ограничиться  горчичниками, банками, ингаляциями физиологического раст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отропное лечение бронхиальной астмы - десенсибилизация сывороткой к найденным аллергенам - проводится в течение ряда лет и во время беременности практического значения не име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исное лечение бронхиальной астмы включает бронхорасширяющие средства (симпатомиметики, ксантиновые производные) и противовоспалительные: интал и глюкокортико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лекарства абсолютно противопоказаны больным бронхиальной астмой: а-адреномиметики, пилокарпин, р-адреноблокаторы, морфины (подавляют дыхательный центр), препараты раувольфии (вызывают вазомоторный ринит). Транквилизаторы, седативные препараты применяют только в исключительных случаях, т. к. они тормозят кашлевой рефлекс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торая стад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пустя 1-2 нед. от начала болезни) –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желтушн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астает слаб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иливаются изжога, тошнота и рвота (чаще кровава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жение за груд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и в живо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хорад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астают симптомы печеночной недостаточ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е уменьшение пече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ронхоэктатическая болезнь у беременны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нхоэктатическая болезнь не является противопоказанием для берем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азания к прерыванию беремен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бострение заболевания в первые 3 ме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ыхательная недостаточность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ст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гочно-сердечная недостаточность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лияние бронхоэктатической болезни на  берем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ременность не способствует обострению бронхоэктатической боле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больных пневмосклерозом, эмфиземой легких может усилиться дыхательная недостато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благоприятное изменение погодных условий, особенно осенью и зимой, простудные заболевания вызывают обострение бронхоэктатической болезни независимо от срока берем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ПН: гипоксия пл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ГСЗ (наличие очага хронической инфекци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едение беременных с бронхоэктатической болез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наблюдения – обы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терапевтом 1раз в 2мес, консультация пульмон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нтгеноскопия органов грудной клетки (по показания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ктериологическое исследование мокр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острении показана госпитал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довая госпитализация - за две недели до р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И, ДМИ,КТГ плода, динамическое определение эстриола в крови матери с целью ранней диагностики страдания пл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сложнениях беременности  - госпитализация в гинекологический или акушерский стацион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оразрешение беременных с бронхоэктатической болез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ы рекомендуется вести через естественные родовые п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больных с легочно-сердечной недостаточностью потуги должны быть выключены с помощью акушерских щипц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есарево сечение в условиях хронически инфицированного организма нежелате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Лечение беременных с бронхоэктатической болезн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ьным с бронхоэктатической болезнью рекомендуются высококалорийное питание с увеличенным количеством белка и вита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ение работой в теплом, хорошо проветриваемом помещении, прогулки на свежем воздух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обострении заболевания применяется лечение антибио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колько раз в день следует принимать положение, при котором наиболее свободно отходит мокрота. Если мокрота отделяется с трудом, назначают отхаркивающие сред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еративное лечение - удаление легкого или его части - во время беременности применяется редко, но и эту возможность следует иметь в виду, если процесс локализо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8259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ff"/>
                </a:solidFill>
                <a:latin typeface="Arial"/>
              </a:rPr>
              <a:t>Болезни печени, легких и почек при беремен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4360" y="4221000"/>
            <a:ext cx="827064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болевание почек у береме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иелонефрит у беременн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6920" y="22766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рый пиелонефрит составляет 14% болезней почек в популя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елонефрит диагностируется у   12,2% беременных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всех экстрагенитальных заболеваний у беременных чаще всего (в 6 — 10% случаев) встречается пиелонефр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чем в 50% случаев это заболевание наблюдается у беременных, в 35% —у родильниц и в 15 % — у рожен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тиология пиелонефри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фического возбудителя пиелонефри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будителями пиелонефрита беременных могут быть кишечная и синегнойная палочки, протей, клебсиелла, реже — эптерококки, стрептококки, стафилококки, вирусы, грибы, простейшие (трихомонады). Заболевание часто вызывается различными микробными ассоциа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тогенез пие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8955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озникновения и развития пиелонефрита беременных, кроме наличия ипфекционного агента в организме, необходимо нарушение уродинамики верхних мочевыводящих путей (нарушение пассажа моч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ю заболевания может способство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личие препятствия оттоку мочи (опухоль, камни, рубцовые изменения в мочеточниках, пороки развития почек и мочеточников). Определенное значение в развитии пиелонефрита имеют условия, способствующие усиленному сдавлению мочеточников беременной маткой: крупный плод, узкий таз, многоводие, многоплод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зменения гормонального баланса в организме. Высокий уровень прогестерона усиливает активность бета-рецепторов, вызывая гипотонию и дискенезию. Высокий уровень эстрогенов, снижая альфа-рецепторную зависимость , приводит к тем же наруш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атологические рефлюксы — пузырно-мочеточниковый, мотеточнико-лоханочиый, лоханочно-почечны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0920" y="476280"/>
            <a:ext cx="834372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риместре беременности примерно у 60% женщин создаются условия для возникновения патологических рефлюксов в связи с нарушением нервно-мышечного тонуса мочеточникового ус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оттока мочи приводит к повышению внутрилоханочного давления. В результате лоханочно-почечных рефлюксов происходит разрыв свода чашечек и инфицированная моча инфильтрирует интерстициальну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кань 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енозной системе микробы проникают в общий кровоток, а обратно в почку возвращаются по артериальной системе и вызывают в ней воспалительный процесс. Эти изменения сопровождаются острым нарушение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овообращения в почке и  гипоксией ее, что, в свою очередь, поддерживает воспалительный процес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-9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етья стад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через 1-2 нед. после возникновения желтух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яжелая  печеночная и почечная недостаточ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очная недостаточность не сопровождается энцефалопати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ительность заболевания находится в пределах от нескольких дней до 7-8 неде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6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0920" y="549000"/>
            <a:ext cx="8064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ледствие тесной нейрогенной связи верхних отделов мочевыводящих путей с сосудами почек возникшие уродинамические нарушения влекут за собой гемодинамические изменения в поч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нижение тонуса почечных вен приводит к одновременному спазму артерий, что приводит к гипоксии и еще сильнее усугубляет расстройства уродинам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ходящему распространению инфекеции способствует несостоятельность сфинктера уретры в связи с большой нагрузкой на него в конце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ют значение и особенности женского мочеиспускательного канала (он короткий и имеет почти прямое напр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елонефрит чаще развивается на фоне снижения местно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общей им­мунологической защиты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чение пие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7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трение пиелонефрита - 1/3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триместре у 9,6%, во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у 78,3%, в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 43%, после родов – у 19,2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серозного часто возникает гнойный пиелонефрит  (диффузно-гнойный - недеструктивный и очагово-гнойный - деструктивный).  Деструктивный (апостематозный, карбункул и абцесс почки) диагностируется у 3-5% берем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сепси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соединение гипертен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П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86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при пиелонефр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34372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ынашивание беременности (выкидыш – 6%, преждевременные роды – 25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оединение тяжелых форм гестоза (40-8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У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перинатальная смертность, особенно при гипертен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болевания мочевой системы матери являются тератогенным фактором для мочевой системы плода. Заболевания почек у плодов: гидронефроз – 2,8%, пиелонефрит – у 3,2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214200"/>
            <a:ext cx="8548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епени риска для беременных с пиелонефрит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415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еосложненный пиелонефрит, возникший во время берем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хронический пиелонефрит, существовавший до беремен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с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хр.пиелонефрит с гипертензией или азотемией, пиелонефрит единственной п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а осложнений в зависимости от степени риска: гестоз у 12,5% - 25% - 5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беременных 3ст риска беременность противопоказа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ение родов у беременных с пиелонефри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70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рый пиелонефрит не является показанием к прерыванию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едение родов рекомендуется применение спазмолитиков, анальгетиков, а/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явлении острой окклюзии мочеточника проводится катетеризация мочеточника и роды заканчиваются через естественные родовые п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родов продолжают а/б или уросеп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тивное родоразрешение проводится по акушерским показаниям с интраоперационной профилактикой инфекции (в/в а/б сразу после извлечения плод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 острого пиелонефрит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70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ибиотики. 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е – пенициллин и полусинтетические пенициллины. С осторожностью амоксиклав (ингибитор бета-лактамазы).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иместрах можно использовать цефалоспорины, аминогликозиды, фторхинолоны, карбопин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септики: нитроксолины, препараты налидиксиновой  кислоты (неграм, невиграмон), нитрафураны, сульфаниламиды (могут вызвать ядерную желтуху у новорожденных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8415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становление пассажа мочи с целью восстановления оттока  м.б. использован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тетеризация мочеточ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еннее дренирование с помощью самоудерживающегося катетера-стен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резкожная пункционная нефростом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ая операция (декапсуляция почки, санация очагов гнойной деструкции с нефростомие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тетеризация, стенирование мочеточников и чрезкожная нефростомия допустима только в случае, когда отсутствуют клинико-лабораторные признаки гнойно-деструктивного пиелонефри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енажное поло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-78480"/>
            <a:ext cx="8548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4920" y="475920"/>
            <a:ext cx="8559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зинтоксикационные средства (обильное питье, инфузия физ.раствора, гемодез, р-р глюкозы и др). Объем – 2,5-3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змаферез, УФ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енсибилизирующая терапия, спазмоли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муномодулирующая терап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ивогрибковые препараты и энтеросорб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нтервалах между а/б терапией показаны растительные уросептики: толокнянка, шалфей, шиповник, хвощ, ромашка. Канефрон, фитолиз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отерапевтические методы: в стадии ремиссии - дециметровые волны, УВЧ, Амплипульс (синусоидальные модулированные токи). В острой стадии – ультразвук на обл. поч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ерием излеченности являются отсутствие клинических симптомов и отсутствие патологических изменений мочи при трехкратном  исследо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84754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дение беременных с пиелонефритом в женской 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нщины с заболевании почек нуждаются в диспансерном наблю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беременности наблюдаются совместно с терапевтом, при необходимости уролог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ые методы обследования: ОАМ еженедельно, пробы Нечипоренко, посев мочи, УЗИ поч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еская оценка состояния фетоплацентарного комплекса (УЗИ, ДМИ. КТГ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чение имеющихся очагов инфекции : кариозные зубы, синуситы, тонзиллиты, колтпи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булаторно рекомендуется: колено-локтевое положение по 5-8мин 3-4 раза в день, растительные уросептики в течение всей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питализация при обострении или появлении осложнений берем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омерулонефрит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омерулонефритом болеют 0,1-0,2% береме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тя проблема сочетания беременности и гломерулонефрита не определена, очевидно, что при определенных формах этого заболевания прогноз можно считать благоприятным, и беременность допустима, в то время как при других формах беременность представляет опасность для женщины и пл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абораторные критерии ОЖГ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емия, лейкоцитоз до 20-30х109; лимфоп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зкая СОЭ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протеинемия, гипоальбуминемия, малая активность трансаминаз, щелочной фосфатазы, некорригируемая гипогликемия, гипepбилирyбинeм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мбоцитопения, гипофибриногенемия, снижение протромбинового индекса, гипокоагуляция с торможением фибринолиза, дефицит прокоагулянтов и высокая антикоагуляционная 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ный для острого жирового гепатоза ДВС-синдром  развивается после внутриутробной гибели плода. Он проявляется маточными или желудочно-кишечными кровотечениями с нарушением свертывающей системы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213840"/>
            <a:ext cx="84042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енности течения гломерулонефрита у б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рый ГН встречается во время беременности крайне ред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чение хронического ГН при береме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дко наступает обост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худшение течения заболевания во время беременности или после 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280" y="214200"/>
            <a:ext cx="81882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при гломерулонефр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3640" y="2017440"/>
            <a:ext cx="86310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та осложнений находится в прямой зависимости от наличия гипертензии (при гипертензии частота всех осложнений беременности в 10 раз выш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стоз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черепные кровоизлия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Р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Р, гипоксия пл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инатальная и материнская смер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692920" cy="17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деля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степе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риска, определяющие частоту неблагополучного исхода беременност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ов для матери и пл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пень риска - минимальная. Латентная форма Г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возникают не более, чем у 20% женщ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редко ухудшает течение заболевания, менее, чем у 20% боль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5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41536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II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пень риска - выраженная. Нефротическая форма Г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ложнения беременности (от 20 до 50 %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стоз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произвольный абор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временные род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Р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ена перинатальная смертность (до 200%о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чение заболевания может ухудшиться во время беременности или после родов более, чем у 20% бо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280" y="-1850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8415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епень риска - максимальная. Гипертоническая и смешанная формы ГН, азотемия при любой форме, острый ГН или обострение хроническ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ложнения беременности (более 50%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ая перинатальная смертность  (более 200%о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еменность представляет опасность для здоровья и жизни женщ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58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дение беременных с гломерулонефри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775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12 нед. беременности госпитализация в стационар для уточнения формы заболевания и решения вопроса о сохранении беремен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, у которых установлена латентная форма ГН, могут в дальнейшем наблюдаться в женской консультации. При обострении  ГН или появлении осложнений беременности необходима экстренная госпитализация.  Дородовая госпитализация необходима за 2 нед до 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ные нефротической формой гломерулонефрита должны быть госпитализированы столько раз и находиться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ционар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лько времени, сколько требует их состояние (иногда несколько месяцев, вплоть до родов). Дородовая госпитализация в 36-37н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больные гипертонической и смешанной формами заболевания отказываются от прерывания беременности, на них распространяется тактика, рекомендуемая при нефротической фор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920" y="-196200"/>
            <a:ext cx="779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улист -2 раза в меся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дополнительных исследований для беременных с ГН: ОАМ еженедельно, АМ по Зимницкому, Нечипоренко, проба Реберга, бак.посев мочи; б/х анализ крови – белок, мочевина, ост.азот, креатинин, анти – О стрептолиз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Г, УЗИ почек, пункционная биопсия почек(крайне редко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намика оценки состояния плода (УЗИ, ДМИ, КТГ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нация хронических очагов инфе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214200"/>
            <a:ext cx="8475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оразрешение беременных с гломерулонефри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86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латентной форме гломерулонефрита женщины могут рожать своевременно и не нуждаются в каком-либо специальном акушерском пособ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больных нефротической, смешанной и гипертонической формами болезни показано досрочное возбуждение родовой деятельности, особенно если контроль за состоянием плода, начинает указывать на нарушение функции фетоплацентарного комплек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ы ведутся с тщательным обезболиванием, использованием гипотензивных препаратов, с ранней амниотом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тором периоде родов при высоком АД возможно использование акушерских щипц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сарево сечение применяется  по акушерским показ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1280" y="213840"/>
            <a:ext cx="83325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ение гломерулонефрита у б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8415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тогенетическая терапия ГН включает в себ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методы, преимущественное действие которых определяется иммунной депрессией(глюкокортикоиды, плазмаферез, цитостатики, антилимфоцитарная сыворотка, дренаж лимфатического прото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средства преимущественно противовоспалительного воздействия (аспирин, индометацин, бруф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прямые и непрямые антикоагулян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аминохино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при беременности использовать только аспирин, гепарин, допустимы глюкокортико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легкой латентной формой ГН беременные не нуждаются в леч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других формах используют симптоматическую терап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ечение беременных с ОЖГ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188800"/>
            <a:ext cx="822960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оразре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нсивной предоперационной подготовки, включающая плазмаферез и трансфузию свежезамороженной плазм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4:51:30Z</dcterms:created>
  <dc:creator>Iggy</dc:creator>
  <dc:description/>
  <dc:language>en-US</dc:language>
  <cp:lastModifiedBy>Iggy</cp:lastModifiedBy>
  <dcterms:modified xsi:type="dcterms:W3CDTF">2007-02-13T18:09:32Z</dcterms:modified>
  <cp:revision>130</cp:revision>
  <dc:subject/>
  <dc:title>Болезни печени, легких и почек при беременности </dc:title>
</cp:coreProperties>
</file>